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D1B9-69C3-4AC7-99ED-756A39A1BB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E1EA4-25C7-4EDE-B5D2-6ABF90A5B0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634C-C456-409C-A45D-36FDF33DF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B59C-3575-4E95-AF6B-543DC113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BED3-4745-4923-817D-4361CEF95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88DB-3DC9-4FF7-B7CB-EC7CCB3C1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15D1-E6D7-4927-A541-BED7F676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3B67-431D-464A-90EB-07444C5AD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D8DA-5F73-4B30-98E5-6D204987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CC6D-B7D8-43A3-B73A-CAB0882B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9B0C-C44D-4C01-94D9-B6996406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7BBD-59E1-41E0-8BAA-0017EF909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5677-BBE0-4584-B6D1-35E25FC06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1CF7-5EED-4D92-92D2-0C3CD833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207D4-774D-4AD9-BD8D-D15E72D3CE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debbiediller.com/whatsnew.htm#new8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choolzone.co.uk/resources/articles/GoodPractice/classroom/Redesigning.asp" TargetMode="External"/><Relationship Id="rId2" Type="http://schemas.openxmlformats.org/officeDocument/2006/relationships/hyperlink" Target="http://www.learnnc.org/" TargetMode="External"/><Relationship Id="rId3" Type="http://schemas.openxmlformats.org/officeDocument/2006/relationships/hyperlink" Target="http://www.learnnc.org/lp/pages/734?ref=search" TargetMode="External"/><Relationship Id="rId4" Type="http://schemas.openxmlformats.org/officeDocument/2006/relationships/hyperlink" Target="http://www.scholastic.com/teachers/article/classroom-organization-physical-environment" TargetMode="External"/><Relationship Id="rId5" Type="http://schemas.openxmlformats.org/officeDocument/2006/relationships/hyperlink" Target="http://www.scholastic.com/teachers/article/introducing-kindergarteners-their-classroom" TargetMode="External"/><Relationship Id="rId6" Type="http://schemas.openxmlformats.org/officeDocument/2006/relationships/hyperlink" Target="http://www.scholastic.com/teachers/article/introducing-kindergarteners-their-classroom" TargetMode="External"/><Relationship Id="rId7" Type="http://schemas.openxmlformats.org/officeDocument/2006/relationships/hyperlink" Target="http://www.scholastic.com/teachers/article/introducing-kindergarteners-their-classroom" TargetMode="External"/><Relationship Id="rId8" Type="http://schemas.openxmlformats.org/officeDocument/2006/relationships/hyperlink" Target="http://www.scholastic.com/teachers/article/classroom-organizing-tips-encouraging-student-independence" TargetMode="External"/><Relationship Id="rId9" Type="http://schemas.openxmlformats.org/officeDocument/2006/relationships/hyperlink" Target="http://www.scholastic.com/teachers/article/classroom-organizing-tips-encouraging-student-independence" TargetMode="External"/><Relationship Id="rId10" Type="http://schemas.openxmlformats.org/officeDocument/2006/relationships/hyperlink" Target="https://printables.scholastic.com/shop/prcontent/Seating-Chart-Teacher-Resource/9780439338141-002" TargetMode="External"/><Relationship Id="rId11" Type="http://schemas.openxmlformats.org/officeDocument/2006/relationships/hyperlink" Target="https://printables.scholastic.com/shop/prcontent/Seating-Chart-Teacher-Resource/9780439338141-002" TargetMode="External"/><Relationship Id="rId12" Type="http://schemas.openxmlformats.org/officeDocument/2006/relationships/hyperlink" Target="https://printables.scholastic.com/shop/prcontent/Seating-Chart-Teacher-Resource/9780439338141-002" TargetMode="External"/><Relationship Id="rId13" Type="http://schemas.openxmlformats.org/officeDocument/2006/relationships/image" Target="../media/image5.wmf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usyteacherscafe.com/management/index.html" TargetMode="External"/><Relationship Id="rId2" Type="http://schemas.openxmlformats.org/officeDocument/2006/relationships/hyperlink" Target="http://www.busyteacherscafe.com/management/index.html" TargetMode="External"/><Relationship Id="rId3" Type="http://schemas.openxmlformats.org/officeDocument/2006/relationships/hyperlink" Target="http://www.busyteacherscafe.com/management/classsetup.html" TargetMode="External"/><Relationship Id="rId4" Type="http://schemas.openxmlformats.org/officeDocument/2006/relationships/hyperlink" Target="http://www.busyteacherscafe.com/management/classsetup.html" TargetMode="External"/><Relationship Id="rId5" Type="http://schemas.openxmlformats.org/officeDocument/2006/relationships/hyperlink" Target="http://www.mrsnelsonsclass.com/teacherresources/classroomsetup/0405/classroomsetup20042005.aspx" TargetMode="External"/><Relationship Id="rId6" Type="http://schemas.openxmlformats.org/officeDocument/2006/relationships/hyperlink" Target="http://www.mrsnelsonsclass.com/teacherresources/classroomsetup/0506/classroomsetup20052006.aspx" TargetMode="External"/><Relationship Id="rId7" Type="http://schemas.openxmlformats.org/officeDocument/2006/relationships/hyperlink" Target="http://teacher.scholastic.com/tools/class_setup/" TargetMode="External"/><Relationship Id="rId8" Type="http://schemas.openxmlformats.org/officeDocument/2006/relationships/hyperlink" Target="http://vimeo.com/59980935" TargetMode="External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>
            <a:alpha val="77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Classroom Management in Photograph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y Maria L. Cha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Spaces &amp; Place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y Debbie Dill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6" descr="http://img1.imagesbn.com/p/9780439531450_p0_v1_s260x420.JPG"/>
          <p:cNvPicPr/>
          <p:nvPr/>
        </p:nvPicPr>
        <p:blipFill>
          <a:blip r:embed="rId1"/>
          <a:stretch/>
        </p:blipFill>
        <p:spPr>
          <a:xfrm rot="508200">
            <a:off x="6276960" y="1233360"/>
            <a:ext cx="2001960" cy="2602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1" name="TextBox 1"/>
          <p:cNvSpPr/>
          <p:nvPr/>
        </p:nvSpPr>
        <p:spPr>
          <a:xfrm>
            <a:off x="3962520" y="529740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debbiediller.com/whatsnew.htm#new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7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9" descr=""/>
          <p:cNvPicPr/>
          <p:nvPr/>
        </p:nvPicPr>
        <p:blipFill>
          <a:blip r:embed="rId3"/>
          <a:srcRect l="11529" t="7723" r="12613" b="9202"/>
          <a:stretch/>
        </p:blipFill>
        <p:spPr>
          <a:xfrm rot="21049800">
            <a:off x="747360" y="3514320"/>
            <a:ext cx="2260440" cy="286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How to be an Effective Teacher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y Kelley Kremer &amp; Steve Reifm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Teacher’s Guidebook for Success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by Bonnie Williams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ecx.images-amazon.com/images/I/51k29Wm4aUL._BO2,204,203,200_PIsitb-sticker-arrow-click,TopRight,35,-76_AA300_SH20_OU01_.jpg"/>
          <p:cNvPicPr/>
          <p:nvPr/>
        </p:nvPicPr>
        <p:blipFill>
          <a:blip r:embed="rId1"/>
          <a:srcRect l="14475" t="13719" r="21151" b="0"/>
          <a:stretch/>
        </p:blipFill>
        <p:spPr>
          <a:xfrm rot="21411600">
            <a:off x="840960" y="3411000"/>
            <a:ext cx="2209680" cy="2961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cache0.bdcdn.net/assets/images/book/medium/9781/5573/9781557344694.jpg"/>
          <p:cNvPicPr/>
          <p:nvPr/>
        </p:nvPicPr>
        <p:blipFill>
          <a:blip r:embed="rId2"/>
          <a:srcRect l="9373" t="0" r="8447" b="0"/>
          <a:stretch/>
        </p:blipFill>
        <p:spPr>
          <a:xfrm rot="468000">
            <a:off x="6451560" y="1192320"/>
            <a:ext cx="1865520" cy="24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-76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1920" y="914040"/>
            <a:ext cx="899172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Artic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designing the Classroom Environment” 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schoolzone.co.uk/resources/articles/GoodPractice/classroom/Redesigning.asp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assroom Environments:  The Basics”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learnnc.or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http://www.learnnc.org/lp/pages/734?ref=searc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assroom Organization:  The Physical Environment”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http://www.scholastic.com/teachers/article/classroom-organization-physical-environ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roducing Kindergarteners to Their Classroom”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http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:/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scholastic.com/teachers/article/introducing-kindergarteners-their-classroo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assroom Organizing Tips for Encouraging Student Independence”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http:/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scholastic.com/teachers/article/classroom-organizing-tips-encouraging-student-independe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assroom Printables                            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https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:/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printables.scholastic.com/shop/prcontent/Seating-Chart-Teacher-Resource/9780439338141-00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Kharrell.RCS\My Documents\Unused Folders\My Data Sources\My Pictures\Microsoft Clip Organizer\j0370140.wmf"/>
          <p:cNvPicPr/>
          <p:nvPr/>
        </p:nvPicPr>
        <p:blipFill>
          <a:blip r:embed="rId13"/>
          <a:stretch/>
        </p:blipFill>
        <p:spPr>
          <a:xfrm>
            <a:off x="6095880" y="0"/>
            <a:ext cx="1739880" cy="183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Resources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3"/>
          <p:cNvSpPr/>
          <p:nvPr/>
        </p:nvSpPr>
        <p:spPr>
          <a:xfrm>
            <a:off x="152280" y="685800"/>
            <a:ext cx="8610840" cy="71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sy Teacher Café (Classroom Management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http:/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www.busyteacherscafe.com/management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3"/>
              </a:rPr>
              <a:t>http://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4"/>
              </a:rPr>
              <a:t>www.busyteacherscafe.com/management/classsetup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Mrs. Nelson’s Cla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5"/>
              </a:rPr>
              <a:t>http://www.mrsnelsonsclass.com/teacherresources/classroomsetup/0405/classroomsetup20042005.aspx</a:t>
            </a:r>
            <a:br>
              <a:rPr sz="2000"/>
            </a:b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6"/>
              </a:rPr>
              <a:t>http://www.mrsnelsonsclass.com/teacherresources/classroomsetup/0506/classroomsetup20052006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ass Set-up Too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7"/>
              </a:rPr>
              <a:t>http://teacher.scholastic.com/tools/class_setup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paces &amp; Places – Classroom Design Vide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8"/>
              </a:rPr>
              <a:t>http://vimeo.com/5998093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Room Makeov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http://larremoreteachertips.blogspot.com/2011/10/spaces-and-places-room-makeover.html?_sm_au_=iVV5QRKq7NvQb7Z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eaching Channe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Calibri"/>
              </a:rPr>
              <a:t>https://www.teachingchannel.org/blog/2014/06/16/video-playlist-new-teachers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C:\Documents and Settings\Kharrell.RCS\My Documents\Unused Folders\My Data Sources\My Pictures\Microsoft Clip Organizer\j0410917.wmf"/>
          <p:cNvPicPr/>
          <p:nvPr/>
        </p:nvPicPr>
        <p:blipFill>
          <a:blip r:embed="rId9"/>
          <a:stretch/>
        </p:blipFill>
        <p:spPr>
          <a:xfrm flipH="1">
            <a:off x="6933960" y="3200400"/>
            <a:ext cx="1904760" cy="1881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22T18:29:59Z</dcterms:created>
  <dc:creator>Kelli Harrell</dc:creator>
  <dc:description/>
  <dc:language>en-US</dc:language>
  <cp:lastModifiedBy>Floyd, Ana</cp:lastModifiedBy>
  <cp:lastPrinted>2015-08-02T20:54:35Z</cp:lastPrinted>
  <dcterms:modified xsi:type="dcterms:W3CDTF">2016-08-02T17:36:27Z</dcterms:modified>
  <cp:revision>215</cp:revision>
  <dc:subject/>
  <dc:title>Extreme Classroom Makeover</dc:title>
</cp:coreProperties>
</file>